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9947275" cy="6811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9946800" cy="68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99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40"/>
          </p:nvPr>
        </p:nvSpPr>
        <p:spPr>
          <a:xfrm>
            <a:off x="5633640" y="0"/>
            <a:ext cx="43102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Img"/>
          </p:nvPr>
        </p:nvSpPr>
        <p:spPr>
          <a:xfrm>
            <a:off x="3269880" y="510840"/>
            <a:ext cx="3405240" cy="25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body"/>
          </p:nvPr>
        </p:nvSpPr>
        <p:spPr>
          <a:xfrm>
            <a:off x="995040" y="3234960"/>
            <a:ext cx="795636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41"/>
          </p:nvPr>
        </p:nvSpPr>
        <p:spPr>
          <a:xfrm>
            <a:off x="0" y="6470640"/>
            <a:ext cx="43099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 type="sldNum" idx="42"/>
          </p:nvPr>
        </p:nvSpPr>
        <p:spPr>
          <a:xfrm>
            <a:off x="5633640" y="6470640"/>
            <a:ext cx="4310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B178-6AC0-4E45-B26D-CB0A935413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3270240" y="511200"/>
            <a:ext cx="3405240" cy="25542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95040" y="3234960"/>
            <a:ext cx="7956360" cy="30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Номер слайда 3"/>
          <p:cNvSpPr/>
          <p:nvPr/>
        </p:nvSpPr>
        <p:spPr>
          <a:xfrm>
            <a:off x="5634000" y="6470640"/>
            <a:ext cx="4310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7FD0-9723-40AA-BFCA-811CC02E83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3270240" y="511200"/>
            <a:ext cx="3405240" cy="25542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95040" y="3234960"/>
            <a:ext cx="7956360" cy="30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Номер слайда 3"/>
          <p:cNvSpPr/>
          <p:nvPr/>
        </p:nvSpPr>
        <p:spPr>
          <a:xfrm>
            <a:off x="5634000" y="6470640"/>
            <a:ext cx="4310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13F0-BE27-4BBC-A8FF-0AA8ECD223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3270240" y="511200"/>
            <a:ext cx="3405240" cy="25542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95040" y="3234960"/>
            <a:ext cx="7956360" cy="30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Номер слайда 3"/>
          <p:cNvSpPr/>
          <p:nvPr/>
        </p:nvSpPr>
        <p:spPr>
          <a:xfrm>
            <a:off x="5634000" y="6470640"/>
            <a:ext cx="4310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11DC-2C74-4937-A7AB-D510C7CD09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5634000" y="6470640"/>
            <a:ext cx="4310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FF30-C53B-4289-8B5E-54A26E1BD2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3270240" y="511200"/>
            <a:ext cx="3405240" cy="25542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95040" y="3234960"/>
            <a:ext cx="7956360" cy="30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5634000" y="6470640"/>
            <a:ext cx="4310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05CD-860A-4D87-8865-6398ED7E0A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3270240" y="511200"/>
            <a:ext cx="3405240" cy="25542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95040" y="3234960"/>
            <a:ext cx="795636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Разберёмся в пон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Arial"/>
              </a:rPr>
              <a:t>Как проектировать эффективный анализ уро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о “эффективность” в переводе с латинского – “эфектос” – означает выполнение действий, обеспечивающие достижение намеченного  результата, а также следствие каких-либо 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200" spc="-1" strike="noStrike">
                <a:solidFill>
                  <a:srgbClr val="800000"/>
                </a:solidFill>
                <a:latin typeface="Arial"/>
              </a:rPr>
              <a:t>Кто и как должен помочь учителю перейти от привычного планирования к проектированию урока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о «project» (лат.) буквально переводится как «брошенный вперед», то есть проект является прототипом, прообразом некоего объекта или вида деятельности, а проектирование превращается в процесс создани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800000"/>
                </a:solidFill>
                <a:latin typeface="Arial"/>
              </a:rPr>
              <a:t>В чём сущность системно-деятельностного подхода к организации образовательной деятельности на урок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«ФГОС НОО, раздел 1, п.7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200" spc="-1" strike="noStrike">
                <a:solidFill>
                  <a:srgbClr val="800000"/>
                </a:solidFill>
                <a:latin typeface="Arial"/>
              </a:rPr>
              <a:t>Как анализировать процесс формирования УУД на урок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3270240" y="511200"/>
            <a:ext cx="3405240" cy="25542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95040" y="3234960"/>
            <a:ext cx="7956360" cy="30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Номер слайда 3"/>
          <p:cNvSpPr/>
          <p:nvPr/>
        </p:nvSpPr>
        <p:spPr>
          <a:xfrm>
            <a:off x="5634000" y="6470640"/>
            <a:ext cx="4310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3A72-51B4-4B7F-AA99-35566017A8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A33E-F2E1-4097-AC7C-70D94F33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907-CDAC-48B5-8261-CB800DA9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5A64E-FC80-4E8E-B2CA-0214EA96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4A4CB-0AD9-4486-97B4-AFFF26E7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BC6C5-5677-4BC0-B759-E031DF64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00E8C-C5A7-476E-A13F-4A6286BD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04687-B6CD-4963-95B8-18338EA6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EA9D9-0CBC-4F4D-B304-0B7EA044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BB9F1-5325-445F-9190-581347EC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C472C-BB77-4D51-9545-9EBC717F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8FF2E-4338-420C-8B29-63D68622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E6501-789E-4B59-BC59-68AF6E1F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6D6-C3CD-4DFB-9FA1-5A79AE5C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1A2B1-5E5B-4D69-BF97-1BC613EC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C5B6E-2D37-44E4-BE53-F606290D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12972-6C6B-438C-8A67-4B9CACC0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13546-E00A-4B13-9D57-0D1BAC14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F9BB2-71D6-4433-B897-B7DB183A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0866B-DE02-4A9D-AD60-95517BFF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E342E-11B4-47BE-851E-E4FED68B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92AE8-0445-44D6-9996-AF64B532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768CA-9B01-402F-88B1-49194B44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4BEB2-9345-4FB5-9F86-CD308B8F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8033-0503-40BF-94A0-AA73734C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E5F8B-5305-49F9-AB2D-36755EA3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5318E-0A61-421C-9857-2319F9C5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E2037-8AAB-420C-9C18-F6E07258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2D03C-37EB-40D7-BDB3-9E18881B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BC73E-EDB4-4062-9CAC-5D66C500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6E751-F6DA-42FC-BC6B-3EB6A2EA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BE777-E97C-4124-9A46-3C7209C6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D676D-097A-43C2-A5B4-82803CEE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27007-5F41-4E7F-AC83-3423321B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96EEE-20CF-469B-9C15-B8DB5205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A8B2-280B-4EE9-9C8F-3D3D605D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2C813-FF8C-4F78-BBAE-F86323EB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B825B-EB92-43E3-B43B-1817BECB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2535D-7584-418B-99E6-994326B6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C1CDE-5A4C-44E0-8582-9C8E00FB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D3806-123B-4A14-A523-81F0DF10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569BD-6130-4B93-89E1-C0EC639D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0D7AF-AF50-46B7-9A1A-02B5D1A5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F2BFF-8A01-4588-B244-A6199630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A6285-04C5-4F74-931B-E5DFFCBE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0E776-EAD3-43FA-8502-54BB9D48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CF31-B716-465F-8701-62CBCA80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C71BA-7F5F-4B93-A3D5-5E717950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FD054-AE76-4A20-8CA0-6E3B3BC5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E4193-A8F8-4681-8DBB-FF5B2F78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378CB-1765-40E5-83AA-102512D7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EB001-6F17-4D4E-B2BB-69D38BCF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9856F-F968-4AD2-B189-2D141555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12EC2-85FB-40E0-B3D4-ED0511FC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9900C-89CC-4D88-8730-2690ADC0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6F190-8D20-440B-998E-84A08209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39B9D-2117-407C-BE34-7F784053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57F3-836C-475E-A8DF-C91A27C2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C2ED7-3E5E-447D-AAC5-34ED1B53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BD585-C376-4C53-A8CF-464E36C8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15D1A-F792-4FCE-8FDD-F62BB75B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E7946-AAC2-4E71-AF67-EAF6C683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51391-A303-4D35-97B7-EC60A470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A1A1F-A846-48B6-A5E5-D5153D4D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0FEA9-627A-4410-A584-A52F7634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689B-B52C-4B54-A98B-B990B4DE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129B-C9D5-40BA-BBE0-2B6608DA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9F46-69B8-4ADC-8DED-36648D73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00C6-59D6-4EE2-9EA7-ED9CC764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17E-6E3F-49CD-AC6F-A52CC645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2E92-F3EC-4051-B4E2-E60490E2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D5ED-E23E-4E9B-86AD-4DAAF6DF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6EAD-17C3-41B0-B9C4-BF9398BF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4A16-2DD7-494F-9A05-B5025A08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4105-AD33-425F-BFA4-93EB4474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F41AF-A0E3-4B1C-BDC2-7D2CBA84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3F561-D583-4A97-8D2D-8FE8688B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13EA3-9222-4CD0-AAB2-B2387FE0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08688-1729-4E03-8D4B-C59FFA58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B3D2F-C380-46BC-A67B-D3B009EB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A97-1E3C-44F8-A87F-2B1B2706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821D2-9867-4459-9DCD-FE6B02D4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F7352-9D69-4D50-B207-F802C763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51512-41F4-43E5-8FB5-4A14543D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0D685-BBD8-4379-84BB-F9093821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FA97-AFD4-4714-9189-2091F1DD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29893-4B97-4AA0-917F-7F28136B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7B9B3-5A3B-4B33-8449-2077A29F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66F98-949A-4FD1-B245-DAD8009D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28AE9-868F-4BF4-AD02-53B5B82C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A1373-A748-4995-A327-AFC6A2BB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8AB-BAF0-4587-8D2D-70C07ED7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23665-F6A6-422D-8A99-A431B6D5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7529D-F46A-47B6-86C6-750CBE45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4E788-0AB9-489B-8C76-BCAE279D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91525-C0A1-47F0-9801-8E7F76E4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85412-478D-4CF5-A38E-3ECBBA9F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7DEA3-768D-4702-997C-04E05A85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32070-A9D2-47B1-8AD4-2D3173EE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69C37-ADCA-496E-9EC8-5217FA60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670CF-5B38-4640-83B0-94033806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7974B-C5F4-46F2-AD31-E5A8223A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152-39A2-41E1-8823-3193238A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59688-3FA1-4A98-9BFE-5B6BC720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64E0D-919B-4948-AE89-EFE412A5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20F4F-C3BE-4696-A9AB-B2B38EDA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DA4F7-042F-4090-8E90-60BAB27C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DA1C4-B84C-4223-8CD7-A25E338A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06B9C-464A-456C-9D80-823F52AC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EAA79-063F-45B3-A329-F50B9D4C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18BD4-24F6-4F58-BCDE-CE73249F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3FBB2-6C00-4118-92BB-A8CD1522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8225C-3C65-46FD-8BBF-F940B4E7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F4E-87D2-48D5-911E-C4EC8CD9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346DD-3FDB-44D6-B4A4-CAEE9404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BCCF5-983F-4772-B47B-1C86DA2E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F2739-2DCD-4D40-8017-AFA16C6D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51C93-463B-4756-A26C-E3DE5768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02515-4C62-47CB-B7E7-3CC96A1A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C6AF9-457D-4305-B991-9BE947FB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DA177-BA82-48D0-94EA-9B20CE20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B3537-2F6B-477F-92DD-2053A30E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42748-81EC-4E08-A30C-A22FF02A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04F54-E273-402B-B494-DED1FB66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007B-10FA-4349-9A06-C2385694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9CDA7-66CC-4304-8D1C-A335B8A6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F9BCC-CF25-48B8-891B-2627F223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E939C-FAFC-45D3-8325-69065FDF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18856-90AC-4037-A88B-C41B31FB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B5D79-5C57-4C21-A353-01055A26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468BE-D2B2-4B0E-B98E-942E1A2A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C4A70-FF03-4F0F-A6FC-52CAA61B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EDFAF-DDD3-455A-BE2F-74999284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80039-C4CA-44E1-88B3-60CBD7EE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6AD57-7228-42C3-821D-3563387F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87E-58C7-47FE-A363-D5BFA772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DB424-4563-4B9B-BFD1-21872366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6258D-ED2A-4A31-B5F2-CA3690E8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3DDCE-52BE-46FF-939B-0603483F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2014F-93FE-4A69-B8D1-0EF4B272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57B68-3080-46EC-A810-0148EB5D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7099C-E80B-4673-AD31-8EB18973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3C5CD-F8B0-4DCC-A2FB-6BF97DC6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2CB65-258D-4EDD-A5DD-B8714AD1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5DFE5-92A6-4C24-96EB-2F28ADC8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CE9FF-974B-4148-B37D-3D9491F2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367-7A34-4BDE-8016-F2D3A098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E6BB6-9009-44BA-8906-9ECC5E89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04BA3-2B83-48D6-9CCD-C5A1D36B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2FCF3-032B-4A71-985C-E97FA0BA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B2C3B-B2B1-4D4B-ADFA-B5A586A9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1FDEF-474C-4C1B-8422-258D0BA5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4C1CE-7575-4353-8851-1CE0B516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5C16B-2D9D-4A7E-B135-B5EB73B3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44A46-D6AF-477A-850C-EDB757DE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675F7-A9E2-40DA-8633-BA637736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09D65-FC0F-40EF-A124-86B21843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63AC-1EB9-4A6C-A195-6A5467B155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2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5DFB-F6CE-4DFC-9DB6-C0380B29F0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7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7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0A41-559B-415B-86D0-EA9550B6AC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2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2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E7FF-0F15-436C-970C-3252BB071F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6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7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C688-EDC5-481C-9FE8-3D03531A7C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44D0-4F64-4855-B051-31A7F47094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7CE2-6679-4495-B582-DAA8F23EFD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4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4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887C-7948-4EEF-8762-78CE4C4A6C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9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EACC-0579-4A77-8C71-0FCF8C1D5C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3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4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E997-03D4-45B2-B59C-A5D98DE1D7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8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8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6836-0343-48C6-B922-96A8992366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3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3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8D43-E7DC-449C-B879-E9A84ACCE8C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8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8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7183-11DA-4F85-8C3C-91EE5E2F76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826920" y="620640"/>
            <a:ext cx="7756560" cy="568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 fontScale="99000"/>
          </a:bodyPr>
          <a:p>
            <a:pPr marL="92520" indent="-2880" algn="ctr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Если вы хотите оценить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92520" indent="-2880" algn="ctr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работу школы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92520" indent="-2880" algn="ctr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вам нужно пойти именно в класс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92520" indent="-2880" algn="ctr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при любой форме оцениван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92520" indent="-2880" algn="ctr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деятельности  учител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92520" indent="-2880" algn="ctr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на первое место должно ставитьс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92520" indent="-2880" algn="ctr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проведение им уроков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92520" indent="-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28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айкл Барбер, профессор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2520" indent="-28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лавный советник премьер-министра Великобритан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2520" indent="-28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 вопросам образ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332D-FBA1-40A3-AEA4-BD1087436C1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AutoShape 7"/>
          <p:cNvGrpSpPr/>
          <p:nvPr/>
        </p:nvGrpSpPr>
        <p:grpSpPr>
          <a:xfrm>
            <a:off x="103320" y="1536840"/>
            <a:ext cx="8534160" cy="5175000"/>
            <a:chOff x="103320" y="1536840"/>
            <a:chExt cx="8534160" cy="5175000"/>
          </a:xfrm>
        </p:grpSpPr>
        <p:pic>
          <p:nvPicPr>
            <p:cNvPr id="691" name="AutoShape 7" descr=""/>
            <p:cNvPicPr/>
            <p:nvPr/>
          </p:nvPicPr>
          <p:blipFill>
            <a:blip r:embed="rId1"/>
            <a:stretch/>
          </p:blipFill>
          <p:spPr>
            <a:xfrm>
              <a:off x="103320" y="1536840"/>
              <a:ext cx="8534160" cy="51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703440" y="1792440"/>
              <a:ext cx="7675560" cy="43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63600" indent="-1800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4000" y="198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Стандарт </a:t>
            </a:r>
            <a:br>
              <a:rPr sz="4200"/>
            </a:b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профессиональных умен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84360" y="1989000"/>
            <a:ext cx="7920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320" indent="-223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тность в проектировании учебного проц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320" indent="-22320"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ие тематического планирования учебной деятельности на основе проецирования образовательных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320" indent="-22320"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ирование «учебных ситуаци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320" indent="-22320"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структуры урока как решение учебной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320" indent="-22320"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симальный учет индивидуальных потребностей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320" indent="-223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фференциация заданий по сложности и объё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320" indent="-223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творческих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A02E-C745-4543-8E62-91CD47BA7A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AutoShape 7"/>
          <p:cNvGrpSpPr/>
          <p:nvPr/>
        </p:nvGrpSpPr>
        <p:grpSpPr>
          <a:xfrm>
            <a:off x="103320" y="1536840"/>
            <a:ext cx="8534160" cy="5314680"/>
            <a:chOff x="103320" y="1536840"/>
            <a:chExt cx="8534160" cy="5314680"/>
          </a:xfrm>
        </p:grpSpPr>
        <p:pic>
          <p:nvPicPr>
            <p:cNvPr id="697" name="AutoShape 7" descr=""/>
            <p:cNvPicPr/>
            <p:nvPr/>
          </p:nvPicPr>
          <p:blipFill>
            <a:blip r:embed="rId1"/>
            <a:stretch/>
          </p:blipFill>
          <p:spPr>
            <a:xfrm>
              <a:off x="103320" y="1536840"/>
              <a:ext cx="8534160" cy="53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709560" y="1798560"/>
              <a:ext cx="7661160" cy="44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63600" indent="-1800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4000" y="198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Стандарт </a:t>
            </a:r>
            <a:br>
              <a:rPr sz="4200"/>
            </a:b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профессиональных умен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684360" y="1557360"/>
            <a:ext cx="7920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20520" indent="-205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тность в управлении класс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0520" indent="-20520"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й темп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0520" indent="-20520"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оциональная вовлечённость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0520" indent="-20520"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центрация и переключение внимания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0520" indent="-20520"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активности всех обучающихся через инициацию детского 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0520" indent="-20520"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коммуникации между  всеми участниками  образовательных отношений через организацию видо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0520" indent="-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руппах и пар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0520" indent="-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ая поддерж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0520" indent="-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0520" indent="-20520"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F091-5007-4BF3-8BD9-CD15AA1170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AutoShape 7"/>
          <p:cNvGrpSpPr/>
          <p:nvPr/>
        </p:nvGrpSpPr>
        <p:grpSpPr>
          <a:xfrm>
            <a:off x="103320" y="1536840"/>
            <a:ext cx="8534160" cy="5314680"/>
            <a:chOff x="103320" y="1536840"/>
            <a:chExt cx="8534160" cy="5314680"/>
          </a:xfrm>
        </p:grpSpPr>
        <p:pic>
          <p:nvPicPr>
            <p:cNvPr id="703" name="AutoShape 7" descr=""/>
            <p:cNvPicPr/>
            <p:nvPr/>
          </p:nvPicPr>
          <p:blipFill>
            <a:blip r:embed="rId1"/>
            <a:stretch/>
          </p:blipFill>
          <p:spPr>
            <a:xfrm>
              <a:off x="103320" y="1536840"/>
              <a:ext cx="8534160" cy="53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709560" y="1798560"/>
              <a:ext cx="7661160" cy="44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63600" indent="-1800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4000" y="198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Стандарт </a:t>
            </a:r>
            <a:br>
              <a:rPr sz="4200"/>
            </a:b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профессиональных умен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684360" y="1988640"/>
            <a:ext cx="792000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320" indent="-223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тность в ведении оценочн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320" indent="-223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разнообразных инструментов оцени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320" indent="-223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ивание для управления учебным процесс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320" indent="-223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индивидуального самооцени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320" indent="-223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нёрская взаимооц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320" indent="-223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овое оцен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320" indent="-22320"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4620-9A6D-42D9-B92E-5265942B987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Эффективность куратор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709" name="Схема 3" descr=""/>
          <p:cNvPicPr/>
          <p:nvPr/>
        </p:nvPicPr>
        <p:blipFill>
          <a:blip r:embed="rId1"/>
          <a:stretch/>
        </p:blipFill>
        <p:spPr>
          <a:xfrm>
            <a:off x="0" y="14875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10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95B0-779D-4D35-AAEB-EA8C3D6CC21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1042920" y="907560"/>
            <a:ext cx="7467840" cy="54738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240" indent="-3240" algn="ctr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Вы не должны огорчаться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ctr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если урок «не сыграет сразу»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ctr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Вы сегодня бросили кристаллик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ctr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Потом вы бросил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ctr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второй, третий, десятый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ctr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И когда-нибудь они все – раз!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ctr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И скристаллизуютс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.С. Библер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философ, культуролог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B378-4C38-47E9-A7EB-0B3DE08B43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Наставничеств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198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дровая технология, обеспечива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у посредством планомерной раб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й, навыков и установ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более опытного сотрудника менее опыт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2" descr="Преимущества наставничества хорошо известны - - - частное объявление Центральный ФО, Москва, Арбат Работа и Учеба, Семинары, тре"/>
          <p:cNvPicPr/>
          <p:nvPr/>
        </p:nvPicPr>
        <p:blipFill>
          <a:blip r:embed="rId1"/>
          <a:stretch/>
        </p:blipFill>
        <p:spPr>
          <a:xfrm>
            <a:off x="179280" y="3951360"/>
            <a:ext cx="2305080" cy="2762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Цели наставничеств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971280" y="2204640"/>
            <a:ext cx="7715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360360"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омощи молодым специалистам в их профессиональном становлении, приобретении профессиональных знаний и навыков выполнения функциональных обязанност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60360"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аптация в коллектив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60360"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дисциплинированности и формирование личностных кач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60360">
              <a:spcBef>
                <a:spcPts val="601"/>
              </a:spcBef>
              <a:spcAft>
                <a:spcPts val="601"/>
              </a:spcAft>
              <a:buClr>
                <a:srgbClr val="7f7f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58560" y="2133360"/>
            <a:ext cx="71038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авная 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а любого наставник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—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жечь факел в душе ученика,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ь ему, что он «стоит десяти  коров»!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611280" y="476280"/>
            <a:ext cx="8281800" cy="368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МАОУ СШ № 152 Советского района г. Красноя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0" y="6093000"/>
            <a:ext cx="1763640" cy="3664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20"/>
          <p:cNvSpPr/>
          <p:nvPr/>
        </p:nvSpPr>
        <p:spPr>
          <a:xfrm>
            <a:off x="1959120" y="3429000"/>
            <a:ext cx="6986520" cy="30225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1"/>
          <p:cNvSpPr/>
          <p:nvPr/>
        </p:nvSpPr>
        <p:spPr>
          <a:xfrm>
            <a:off x="1714680" y="1143000"/>
            <a:ext cx="742932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Школа молодого уч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2"/>
          <p:cNvSpPr/>
          <p:nvPr/>
        </p:nvSpPr>
        <p:spPr>
          <a:xfrm>
            <a:off x="0" y="6073920"/>
            <a:ext cx="4716360" cy="6426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Л. Бочар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201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0" y="3429000"/>
            <a:ext cx="2143080" cy="2871720"/>
          </a:xfrm>
          <a:prstGeom prst="rect">
            <a:avLst/>
          </a:prstGeom>
          <a:gradFill rotWithShape="0">
            <a:gsLst>
              <a:gs pos="0">
                <a:srgbClr val="dcdcc2"/>
              </a:gs>
              <a:gs pos="50000">
                <a:srgbClr val="ffffe1"/>
              </a:gs>
              <a:gs pos="100000">
                <a:srgbClr val="dcdc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Номер слайда 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EC96-45CF-4D62-BA1A-8A78F4DEF23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9"/>
          <p:cNvSpPr/>
          <p:nvPr/>
        </p:nvSpPr>
        <p:spPr>
          <a:xfrm rot="20880000">
            <a:off x="3333240" y="4393800"/>
            <a:ext cx="5762880" cy="1000080"/>
          </a:xfrm>
          <a:prstGeom prst="ellipse">
            <a:avLst/>
          </a:prstGeom>
          <a:solidFill>
            <a:srgbClr val="e2e2ca"/>
          </a:solidFill>
          <a:ln w="38160">
            <a:solidFill>
              <a:srgbClr val="ffffe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Из программы «Наставничеств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AutoShape 7"/>
          <p:cNvGrpSpPr/>
          <p:nvPr/>
        </p:nvGrpSpPr>
        <p:grpSpPr>
          <a:xfrm>
            <a:off x="103320" y="1536840"/>
            <a:ext cx="8534160" cy="5314680"/>
            <a:chOff x="103320" y="1536840"/>
            <a:chExt cx="8534160" cy="5314680"/>
          </a:xfrm>
        </p:grpSpPr>
        <p:pic>
          <p:nvPicPr>
            <p:cNvPr id="632" name="AutoShape 7" descr=""/>
            <p:cNvPicPr/>
            <p:nvPr/>
          </p:nvPicPr>
          <p:blipFill>
            <a:blip r:embed="rId1"/>
            <a:stretch/>
          </p:blipFill>
          <p:spPr>
            <a:xfrm>
              <a:off x="103320" y="1536840"/>
              <a:ext cx="8534160" cy="53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709560" y="1798560"/>
              <a:ext cx="7661160" cy="44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63600" indent="-1800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4000" y="198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Материалы семина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258920" y="1773360"/>
            <a:ext cx="7632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«Наставничеств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жение о наставнич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 работы МАОУ СШ № 1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стические данные о педагог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ческий паспорт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ностические карты педаг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ьная тетрадь посещ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исание ур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ый методический сборник «Копил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а школьного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еофрагменты ур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йс молодого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иты: выше и лучш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6675-A70C-4FAA-A79B-CA013B584CA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Прямоугольник 27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ffffee"/>
          </a:solidFill>
          <a:ln w="38160">
            <a:solidFill>
              <a:srgbClr val="ffffe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Этапы становл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Line 27"/>
          <p:cNvSpPr/>
          <p:nvPr/>
        </p:nvSpPr>
        <p:spPr>
          <a:xfrm flipV="1">
            <a:off x="7236000" y="537336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3"/>
          <p:cNvSpPr/>
          <p:nvPr/>
        </p:nvSpPr>
        <p:spPr>
          <a:xfrm>
            <a:off x="7667640" y="494172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Выгнутая вверх стрелка 40"/>
          <p:cNvSpPr/>
          <p:nvPr/>
        </p:nvSpPr>
        <p:spPr>
          <a:xfrm rot="171000">
            <a:off x="1388880" y="1114200"/>
            <a:ext cx="6840360" cy="1469880"/>
          </a:xfrm>
          <a:custGeom>
            <a:avLst/>
            <a:gdLst>
              <a:gd name="textAreaLeft" fmla="*/ 1572120 w 6840360"/>
              <a:gd name="textAreaRight" fmla="*/ 5084640 w 6840360"/>
              <a:gd name="textAreaTop" fmla="*/ 196920 h 1469880"/>
              <a:gd name="textAreaBottom" fmla="*/ 1272960 h 1469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30" hR="21600" stAng="10800000" swAng="5400000"/>
                <a:lnTo>
                  <a:pt x="11091" y="0"/>
                </a:lnTo>
                <a:arcTo wR="9930" hR="21600" stAng="-5400000" swAng="3640705"/>
                <a:lnTo>
                  <a:pt x="21285" y="16200"/>
                </a:lnTo>
                <a:lnTo>
                  <a:pt x="20440" y="21600"/>
                </a:lnTo>
                <a:lnTo>
                  <a:pt x="18964" y="16200"/>
                </a:lnTo>
                <a:lnTo>
                  <a:pt x="19544" y="16200"/>
                </a:lnTo>
                <a:arcTo wR="9930" hR="21600" stAng="-1759295" swAng="-3548179"/>
                <a:lnTo>
                  <a:pt x="10510" y="37"/>
                </a:lnTo>
                <a:arcTo wR="9930" hR="21600" stAng="-5492525" swAng="-5307475"/>
                <a:close/>
              </a:path>
              <a:path fill="darkenLess" w="21600" h="21600">
                <a:moveTo>
                  <a:pt x="0" y="21600"/>
                </a:moveTo>
                <a:arcTo wR="9930" hR="21600" stAng="10800000" swAng="5400000"/>
                <a:lnTo>
                  <a:pt x="9930" y="0"/>
                </a:lnTo>
                <a:arcTo wR="9930" hR="21600" stAng="-5400000" swAng="92525"/>
                <a:lnTo>
                  <a:pt x="10510" y="37"/>
                </a:lnTo>
                <a:arcTo wR="9930" hR="21600" stAng="-5492525" swAng="-5307475"/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Штриховая стрелка вправо 41"/>
          <p:cNvSpPr/>
          <p:nvPr/>
        </p:nvSpPr>
        <p:spPr>
          <a:xfrm>
            <a:off x="179280" y="4365720"/>
            <a:ext cx="8713800" cy="2109600"/>
          </a:xfrm>
          <a:custGeom>
            <a:avLst/>
            <a:gdLst/>
            <a:ahLst/>
            <a:rect l="l" t="t" r="r" b="b"/>
            <a:pathLst>
              <a:path w="8713787" h="2109788">
                <a:moveTo>
                  <a:pt x="0" y="527447"/>
                </a:moveTo>
                <a:lnTo>
                  <a:pt x="65931" y="527447"/>
                </a:lnTo>
                <a:lnTo>
                  <a:pt x="65931" y="1582341"/>
                </a:lnTo>
                <a:lnTo>
                  <a:pt x="0" y="1582341"/>
                </a:lnTo>
                <a:lnTo>
                  <a:pt x="0" y="527447"/>
                </a:lnTo>
                <a:close/>
                <a:moveTo>
                  <a:pt x="131862" y="527447"/>
                </a:moveTo>
                <a:lnTo>
                  <a:pt x="263724" y="527447"/>
                </a:lnTo>
                <a:lnTo>
                  <a:pt x="263724" y="1582341"/>
                </a:lnTo>
                <a:lnTo>
                  <a:pt x="131862" y="1582341"/>
                </a:lnTo>
                <a:lnTo>
                  <a:pt x="131862" y="527447"/>
                </a:lnTo>
                <a:close/>
                <a:moveTo>
                  <a:pt x="329654" y="527447"/>
                </a:moveTo>
                <a:lnTo>
                  <a:pt x="7658893" y="527447"/>
                </a:lnTo>
                <a:lnTo>
                  <a:pt x="7658893" y="0"/>
                </a:lnTo>
                <a:lnTo>
                  <a:pt x="8713787" y="1054894"/>
                </a:lnTo>
                <a:lnTo>
                  <a:pt x="7658893" y="2109788"/>
                </a:lnTo>
                <a:lnTo>
                  <a:pt x="7658893" y="1582341"/>
                </a:lnTo>
                <a:lnTo>
                  <a:pt x="329654" y="1582341"/>
                </a:lnTo>
                <a:lnTo>
                  <a:pt x="329654" y="527447"/>
                </a:lnTo>
                <a:close/>
              </a:path>
            </a:pathLst>
          </a:custGeom>
          <a:solidFill>
            <a:srgbClr val="e2e2ca"/>
          </a:solidFill>
          <a:ln w="25560">
            <a:solidFill>
              <a:srgbClr val="a6a6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AutoShape 28"/>
          <p:cNvGrpSpPr/>
          <p:nvPr/>
        </p:nvGrpSpPr>
        <p:grpSpPr>
          <a:xfrm>
            <a:off x="3475080" y="4979880"/>
            <a:ext cx="5040360" cy="871560"/>
            <a:chOff x="3475080" y="4979880"/>
            <a:chExt cx="5040360" cy="871560"/>
          </a:xfrm>
        </p:grpSpPr>
        <p:pic>
          <p:nvPicPr>
            <p:cNvPr id="644" name="AutoShape 28" descr=""/>
            <p:cNvPicPr/>
            <p:nvPr/>
          </p:nvPicPr>
          <p:blipFill>
            <a:blip r:embed="rId1"/>
            <a:stretch/>
          </p:blipFill>
          <p:spPr>
            <a:xfrm>
              <a:off x="3475080" y="4979880"/>
              <a:ext cx="50403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3527280" y="5141880"/>
              <a:ext cx="424656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етодическое сопровожд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Oval 24"/>
          <p:cNvSpPr/>
          <p:nvPr/>
        </p:nvSpPr>
        <p:spPr>
          <a:xfrm rot="20602800">
            <a:off x="2417760" y="2130480"/>
            <a:ext cx="3759120" cy="9874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ап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23"/>
          <p:cNvSpPr/>
          <p:nvPr/>
        </p:nvSpPr>
        <p:spPr>
          <a:xfrm rot="20653200">
            <a:off x="2831760" y="3149280"/>
            <a:ext cx="3267000" cy="7905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би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25"/>
          <p:cNvSpPr/>
          <p:nvPr/>
        </p:nvSpPr>
        <p:spPr>
          <a:xfrm rot="20753400">
            <a:off x="3525480" y="3924000"/>
            <a:ext cx="2701800" cy="72864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Выноска-облако 69"/>
          <p:cNvGrpSpPr/>
          <p:nvPr/>
        </p:nvGrpSpPr>
        <p:grpSpPr>
          <a:xfrm>
            <a:off x="-55440" y="5632560"/>
            <a:ext cx="2987640" cy="1092240"/>
            <a:chOff x="-55440" y="5632560"/>
            <a:chExt cx="2987640" cy="1092240"/>
          </a:xfrm>
        </p:grpSpPr>
        <p:pic>
          <p:nvPicPr>
            <p:cNvPr id="650" name="Выноска-облако 69" descr=""/>
            <p:cNvPicPr/>
            <p:nvPr/>
          </p:nvPicPr>
          <p:blipFill>
            <a:blip r:embed="rId2"/>
            <a:stretch/>
          </p:blipFill>
          <p:spPr>
            <a:xfrm>
              <a:off x="-55440" y="5632560"/>
              <a:ext cx="29876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396720" y="5870520"/>
              <a:ext cx="188136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еятельнос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аставн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Группа 43"/>
          <p:cNvGrpSpPr/>
          <p:nvPr/>
        </p:nvGrpSpPr>
        <p:grpSpPr>
          <a:xfrm>
            <a:off x="74520" y="2276640"/>
            <a:ext cx="2417760" cy="3528720"/>
            <a:chOff x="74520" y="2276640"/>
            <a:chExt cx="2417760" cy="3528720"/>
          </a:xfrm>
        </p:grpSpPr>
        <p:grpSp>
          <p:nvGrpSpPr>
            <p:cNvPr id="653" name="Группа 35"/>
            <p:cNvGrpSpPr/>
            <p:nvPr/>
          </p:nvGrpSpPr>
          <p:grpSpPr>
            <a:xfrm>
              <a:off x="74520" y="2276640"/>
              <a:ext cx="2417760" cy="2061000"/>
              <a:chOff x="74520" y="2276640"/>
              <a:chExt cx="2417760" cy="2061000"/>
            </a:xfrm>
          </p:grpSpPr>
          <p:pic>
            <p:nvPicPr>
              <p:cNvPr id="654" name="Picture 8" descr="C:\Users\Людмила\Desktop\СДП\Памятка со структурой уроков, основанных на СДП - MindMeister Интеллект-карта_files\flag_green.png"/>
              <p:cNvPicPr/>
              <p:nvPr/>
            </p:nvPicPr>
            <p:blipFill>
              <a:blip r:embed="rId3"/>
              <a:stretch/>
            </p:blipFill>
            <p:spPr>
              <a:xfrm>
                <a:off x="74520" y="2276640"/>
                <a:ext cx="2417760" cy="206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Прямоугольник 34"/>
              <p:cNvSpPr/>
              <p:nvPr/>
            </p:nvSpPr>
            <p:spPr>
              <a:xfrm>
                <a:off x="730800" y="2774520"/>
                <a:ext cx="1657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Молодой специалис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14"/>
            <p:cNvSpPr/>
            <p:nvPr/>
          </p:nvSpPr>
          <p:spPr>
            <a:xfrm>
              <a:off x="394920" y="4149720"/>
              <a:ext cx="2016360" cy="914400"/>
            </a:xfrm>
            <a:prstGeom prst="rect">
              <a:avLst/>
            </a:prstGeom>
            <a:solidFill>
              <a:srgbClr val="f5f5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еятельнос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олод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едагог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Двойная стрелка вверх/вниз 42"/>
            <p:cNvSpPr/>
            <p:nvPr/>
          </p:nvSpPr>
          <p:spPr>
            <a:xfrm>
              <a:off x="1439640" y="5084640"/>
              <a:ext cx="360360" cy="720720"/>
            </a:xfrm>
            <a:prstGeom prst="upDownArrow">
              <a:avLst>
                <a:gd name="adj1" fmla="val 50000"/>
                <a:gd name="adj2" fmla="val 50019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Выгнутая вверх стрелка 46"/>
          <p:cNvSpPr/>
          <p:nvPr/>
        </p:nvSpPr>
        <p:spPr>
          <a:xfrm rot="5400000">
            <a:off x="1788840" y="4792680"/>
            <a:ext cx="1986120" cy="699840"/>
          </a:xfrm>
          <a:custGeom>
            <a:avLst/>
            <a:gdLst>
              <a:gd name="textAreaLeft" fmla="*/ 430920 w 1986120"/>
              <a:gd name="textAreaRight" fmla="*/ 1467720 w 1986120"/>
              <a:gd name="textAreaTop" fmla="*/ 93600 h 699840"/>
              <a:gd name="textAreaBottom" fmla="*/ 606240 h 69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73" hR="21600" stAng="10800000" swAng="5400000"/>
                <a:lnTo>
                  <a:pt x="11276" y="0"/>
                </a:lnTo>
                <a:arcTo wR="9373" hR="21600" stAng="-5400000" swAng="3554717"/>
                <a:lnTo>
                  <a:pt x="21302" y="16200"/>
                </a:lnTo>
                <a:lnTo>
                  <a:pt x="19697" y="21600"/>
                </a:lnTo>
                <a:lnTo>
                  <a:pt x="17495" y="16200"/>
                </a:lnTo>
                <a:lnTo>
                  <a:pt x="18447" y="16200"/>
                </a:lnTo>
                <a:arcTo wR="9373" hR="21600" stAng="-1845283" swAng="-3402594"/>
                <a:lnTo>
                  <a:pt x="10324" y="112"/>
                </a:lnTo>
                <a:arcTo wR="9373" hR="21600" stAng="-5552123" swAng="-5247877"/>
                <a:close/>
              </a:path>
              <a:path fill="darkenLess" w="21600" h="21600">
                <a:moveTo>
                  <a:pt x="0" y="21600"/>
                </a:moveTo>
                <a:arcTo wR="9373" hR="21600" stAng="10800000" swAng="5400000"/>
                <a:lnTo>
                  <a:pt x="9373" y="0"/>
                </a:lnTo>
                <a:arcTo wR="9373" hR="21600" stAng="-5400000" swAng="152123"/>
                <a:lnTo>
                  <a:pt x="10324" y="112"/>
                </a:lnTo>
                <a:arcTo wR="9373" hR="21600" stAng="-5552123" swAng="-5247877"/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9" name="Прямая со стрелкой 50"/>
          <p:cNvCxnSpPr/>
          <p:nvPr/>
        </p:nvCxnSpPr>
        <p:spPr>
          <a:xfrm flipV="1">
            <a:off x="2410920" y="3357360"/>
            <a:ext cx="361080" cy="79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0" name="Прямая со стрелкой 54"/>
          <p:cNvCxnSpPr/>
          <p:nvPr/>
        </p:nvCxnSpPr>
        <p:spPr>
          <a:xfrm flipV="1">
            <a:off x="2410920" y="4005000"/>
            <a:ext cx="505800" cy="14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1" name="Прямая со стрелкой 55"/>
          <p:cNvCxnSpPr/>
          <p:nvPr/>
        </p:nvCxnSpPr>
        <p:spPr>
          <a:xfrm>
            <a:off x="2411280" y="4149360"/>
            <a:ext cx="1153440" cy="359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2" name="Прямая со стрелкой 56"/>
          <p:cNvCxnSpPr/>
          <p:nvPr/>
        </p:nvCxnSpPr>
        <p:spPr>
          <a:xfrm>
            <a:off x="2410920" y="4149360"/>
            <a:ext cx="1081800" cy="93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63" name="Picture 2" descr="C:\Users\Людмила\Desktop\СДП\Памятка со структурой уроков, основанных на СДП - MindMeister Интеллект-карта_files\42550.png"/>
          <p:cNvPicPr/>
          <p:nvPr/>
        </p:nvPicPr>
        <p:blipFill>
          <a:blip r:embed="rId4"/>
          <a:stretch/>
        </p:blipFill>
        <p:spPr>
          <a:xfrm>
            <a:off x="7924680" y="2276640"/>
            <a:ext cx="1219320" cy="1220760"/>
          </a:xfrm>
          <a:prstGeom prst="rect">
            <a:avLst/>
          </a:prstGeom>
          <a:ln w="0">
            <a:noFill/>
          </a:ln>
        </p:spPr>
      </p:pic>
      <p:sp>
        <p:nvSpPr>
          <p:cNvPr id="664" name="Номер слайда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E068-ED0D-4490-BBC1-1F4EAA64A46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8" descr="C:\Users\Людмила\Desktop\СДП\Памятка со структурой уроков, основанных на СДП - MindMeister Интеллект-карта_files\flag_green.png"/>
          <p:cNvPicPr/>
          <p:nvPr/>
        </p:nvPicPr>
        <p:blipFill>
          <a:blip r:embed="rId5"/>
          <a:stretch/>
        </p:blipFill>
        <p:spPr>
          <a:xfrm>
            <a:off x="6629400" y="2870280"/>
            <a:ext cx="2419200" cy="2060640"/>
          </a:xfrm>
          <a:prstGeom prst="rect">
            <a:avLst/>
          </a:prstGeom>
          <a:ln w="0">
            <a:noFill/>
          </a:ln>
        </p:spPr>
      </p:pic>
      <p:sp>
        <p:nvSpPr>
          <p:cNvPr id="666" name="Прямоугольник 34"/>
          <p:cNvSpPr/>
          <p:nvPr/>
        </p:nvSpPr>
        <p:spPr>
          <a:xfrm>
            <a:off x="7319880" y="35305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ециа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Прямоугольник 3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ffffee"/>
          </a:solidFill>
          <a:ln w="38160">
            <a:solidFill>
              <a:srgbClr val="ffffe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040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Times New Roman"/>
              </a:rPr>
              <a:t>Методические объединения – группы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68360" y="1197000"/>
            <a:ext cx="8424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163080" indent="-16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Рабочая группа «Школа молодого учит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Творческая группа «Школа передового опы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«Первый раз в 1 клас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«ПНШ» – 2-3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«ВПР-2017», 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Профессиональные со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Овал 9"/>
          <p:cNvGrpSpPr/>
          <p:nvPr/>
        </p:nvGrpSpPr>
        <p:grpSpPr>
          <a:xfrm>
            <a:off x="268200" y="4121280"/>
            <a:ext cx="8607600" cy="1261800"/>
            <a:chOff x="268200" y="4121280"/>
            <a:chExt cx="8607600" cy="1261800"/>
          </a:xfrm>
        </p:grpSpPr>
        <p:pic>
          <p:nvPicPr>
            <p:cNvPr id="671" name="Овал 9" descr=""/>
            <p:cNvPicPr/>
            <p:nvPr/>
          </p:nvPicPr>
          <p:blipFill>
            <a:blip r:embed="rId1"/>
            <a:stretch/>
          </p:blipFill>
          <p:spPr>
            <a:xfrm>
              <a:off x="268200" y="4121280"/>
              <a:ext cx="8607600" cy="12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1568520" y="4317840"/>
              <a:ext cx="600696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70605"/>
                  </a:solidFill>
                  <a:latin typeface="Arial"/>
                </a:rPr>
                <a:t>кураторство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D6B4-26E0-48DB-A36F-5901B2D21F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Прямоугольник 3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ffffee"/>
          </a:solidFill>
          <a:ln w="38160">
            <a:solidFill>
              <a:srgbClr val="ffffe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ы работы с молодыми учителям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84000" y="1125360"/>
            <a:ext cx="799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адаптации специал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щение уроков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ающие уро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ые у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оанализ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Проблемный круглый 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Семин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нг внедрения полученных знаний и умений в практ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FE52-AC77-435A-ABAF-3113241A32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Прямоугольник 3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ffffee"/>
          </a:solidFill>
          <a:ln w="38160">
            <a:solidFill>
              <a:srgbClr val="ffffe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ы работы с молодыми учителям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576360" y="1809720"/>
            <a:ext cx="7991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Методическая мастерская «Проектирование современного уро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танционный теоретический семинар «ФГОС: образовательный стандарт                       в действ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ктическая методическая предметная площадка «СДП – условие реализации требований ФГО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CFC9-31F4-448C-9BD9-3859C5814C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рямоугольник 3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ffffee"/>
          </a:solidFill>
          <a:ln w="38160">
            <a:solidFill>
              <a:srgbClr val="ffffe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058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Профессиональное саморазвит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93360" y="121248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2280" indent="-2422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Мониторинг  профессиональных дости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2280" indent="-2422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Индивидуальные 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2280" indent="-242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Профессиональные сообществ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-серви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2280" indent="-242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Вебинары издательства «Просвещени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2280" indent="-2422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К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2280" indent="-2422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Предметные дека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2280" indent="-2422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Апробация ЭФ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2280" indent="-2422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Профессиональные конк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2280" indent="-2422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Аттес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2280" indent="-2422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2280" indent="-2422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2280" indent="-2422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12CD-0E59-47A9-832B-C0D8CB2C50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Прямоугольник 3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ffffee"/>
          </a:solidFill>
          <a:ln w="38160">
            <a:solidFill>
              <a:srgbClr val="ffffe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820404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Кейс молодого учите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4000" y="2133360"/>
            <a:ext cx="7993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Пакет нормативных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Диагностическая карта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Методический па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05"/>
                </a:solidFill>
                <a:latin typeface="Arial"/>
              </a:rPr>
              <a:t>Школьный сборник «Копил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F2F4-628F-40E5-8F9F-609C809B37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4:59:52Z</dcterms:created>
  <dc:creator>Информационно-библиотечный центр</dc:creator>
  <dc:description/>
  <dc:language>en-US</dc:language>
  <cp:lastModifiedBy>profnet@kimc.ms</cp:lastModifiedBy>
  <cp:lastPrinted>2017-02-17T02:05:06Z</cp:lastPrinted>
  <dcterms:modified xsi:type="dcterms:W3CDTF">2017-03-02T03:27:32Z</dcterms:modified>
  <cp:revision>643</cp:revision>
  <dc:subject/>
  <dc:title>Лесостепные южные и западные районы</dc:title>
</cp:coreProperties>
</file>