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3D9-6411-4E15-A796-D5A889CB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71A-7A27-4C7B-B37C-FA1FFD25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B7E-DA9B-4F37-8901-691137E3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22A-7427-449C-9E3F-021857AB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80D3D-97A8-42E5-97F8-392EE530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58745-8FF5-489C-A02A-A3679AFC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2E93F-B6AB-4418-8395-A1AF09D2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6BE24-2C12-4B8D-B5E0-B7B32D21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58F85-848C-4F1C-832B-3D8BEDC5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23508-AD05-4E87-926F-87CDE184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B8038-F5F4-459B-A376-82FAF703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1B5-2D2E-446C-985B-E4CD8899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9FF43-E173-4866-9DF0-39C31B0A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088FB-5621-4784-867E-5707CF5E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B7522-AF8A-428E-8053-8185B6F0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E29A9-75DA-4FB5-9D96-32C34FB2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65C30-83B4-4C07-9836-ACA9C525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7BF6-1ED7-4996-8579-F8C7C7AD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36C-86D5-4CC8-938B-DE49BC2D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4F95-6464-4D7E-96C0-D0189A59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B9F-6830-4E38-B150-35EF3175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65F-A547-4020-BDD8-68081935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EF4-AEDE-4A65-BDC9-81C3DC34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C6B-F1C5-483C-B086-E76FABE8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38E9-5659-44FA-8BA8-919CA22E6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BA69-00CD-4DBE-83F2-BD4B601983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F:\baleines12.JPG"/>
          <p:cNvPicPr/>
          <p:nvPr/>
        </p:nvPicPr>
        <p:blipFill>
          <a:blip r:embed="rId1"/>
          <a:stretch/>
        </p:blipFill>
        <p:spPr>
          <a:xfrm>
            <a:off x="179280" y="189000"/>
            <a:ext cx="8899560" cy="666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D:\MyDoc\Бочарова\1.2 Фотоальбом\Мои рисунки\оформление презентаций\Заставки от Севрюковой\88-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Киты: выше и лучш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067280" y="5084640"/>
            <a:ext cx="47527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9ff"/>
                </a:solidFill>
                <a:latin typeface="Tahoma"/>
              </a:rPr>
              <a:t>Кеннет Бланш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D:\MyDoc\Бочарова\1.2 Фотоальбом\Мои рисунки\оформление презентаций\Заставки от Севрюковой\88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0" y="189000"/>
            <a:ext cx="9144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Позитивная реакция</a:t>
            </a:r>
            <a:br>
              <a:rPr sz="5400"/>
            </a:b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действует </a:t>
            </a:r>
            <a:br>
              <a:rPr sz="5400"/>
            </a:b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лишь в том случае, </a:t>
            </a:r>
            <a:br>
              <a:rPr sz="5400"/>
            </a:b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когда вы честны и искренни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D:\MyDoc\Бочарова\1.2 Фотоальбом\Мои рисунки\оформление презентаций\Заставки от Севрюковой\88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755640" y="1773360"/>
            <a:ext cx="7772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Никогда не считайте, что вы знаете, </a:t>
            </a:r>
            <a:br>
              <a:rPr sz="5400"/>
            </a:br>
            <a:r>
              <a:rPr b="1" i="1" lang="ru-RU" sz="5400" spc="-1" strike="noStrike">
                <a:solidFill>
                  <a:srgbClr val="0033cc"/>
                </a:solidFill>
                <a:latin typeface="Times New Roman"/>
              </a:rPr>
              <a:t>что </a:t>
            </a:r>
            <a:br>
              <a:rPr sz="5400"/>
            </a:b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может мотивировать человека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D:\MyDoc\Бочарова\1.2 Фотоальбом\Мои рисунки\оформление презентаций\Заставки от Севрюковой\88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755640" y="1500120"/>
            <a:ext cx="7772400" cy="33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Пробудитесь и говорите нечто позитивное, </a:t>
            </a:r>
            <a:br>
              <a:rPr sz="5400"/>
            </a:b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когда все идет хорошо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D:\MyDoc\Бочарова\1.2 Фотоальбом\Мои рисунки\оформление презентаций\Заставки от Севрюковой\88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539640" y="1125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Вам не повредит иногда похвалить самого себя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357280" y="5572080"/>
            <a:ext cx="42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d3dd7"/>
                </a:solidFill>
                <a:latin typeface="Times New Roman"/>
                <a:ea typeface="Times New Roman"/>
              </a:rPr>
              <a:t>Выполнила Л.Бочаро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D:\MyDoc\Бочарова\1.2 Фотоальбом\Мои рисунки\оформление презентаций\Заставки от Севрюковой\88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539640" y="1125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в продолжение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D:\MyDoc\Бочарова\1.2 Фотоальбом\Мои рисунки\оформление презентаций\Заставки от Севрюковой\88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539640" y="1125360"/>
            <a:ext cx="8280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Скажите, что я не права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716360" y="4998960"/>
            <a:ext cx="41036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9ff"/>
                </a:solidFill>
                <a:latin typeface="Tahoma"/>
              </a:rPr>
              <a:t>Выполнила Л.Бочарова (действенная методика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:\MyDoc\Бочарова\1.2 Фотоальбом\Мои рисунки\оформление презентаций\Заставки от Севрюковой\88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39640" y="189000"/>
            <a:ext cx="77724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Методика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28760" y="2214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создай довер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акцентируй внимание на позитивном поведе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перенаправляй деятельность             при ошибк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D:\MyDoc\Бочарова\1.2 Фотоальбом\Мои рисунки\оформление презентаций\Заставки от Севрюковой\88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539640" y="189000"/>
            <a:ext cx="77724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Три части процесс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637000"/>
            <a:ext cx="8326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7f7f7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Активатор – </a:t>
            </a: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любая причина, вызывающая действ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7f7f7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Поведение – </a:t>
            </a: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совершаемое действ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7f7f7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Результат – </a:t>
            </a: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ваша реакция на действ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D:\MyDoc\Бочарова\1.2 Фотоальбом\Мои рисунки\оформление презентаций\Заставки от Севрюковой\88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250920" y="785880"/>
            <a:ext cx="889308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4 вида</a:t>
            </a:r>
            <a:br>
              <a:rPr sz="5400"/>
            </a:b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 результирующей реакци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0920" y="2637000"/>
            <a:ext cx="8326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7f7f7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Отсутствие реакции </a:t>
            </a:r>
            <a:r>
              <a:rPr b="0" lang="ru-RU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7f7f7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Негативная реакция </a:t>
            </a:r>
            <a:r>
              <a:rPr b="0" lang="ru-RU" sz="3600" spc="-1" strike="noStrike" u="sng">
                <a:solidFill>
                  <a:srgbClr val="ff3300"/>
                </a:solidFill>
                <a:uFillTx/>
                <a:latin typeface="Wingdings"/>
                <a:ea typeface="Wingdings"/>
                <a:hlinkClick r:id="rId2" action="ppaction://hlinksldjump"/>
              </a:rPr>
              <a:t>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7f7f7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Перенаправление </a:t>
            </a:r>
            <a:r>
              <a:rPr b="0" lang="ru-RU" sz="3600" spc="-1" strike="noStrike" u="sng">
                <a:solidFill>
                  <a:srgbClr val="ff3300"/>
                </a:solidFill>
                <a:uFillTx/>
                <a:latin typeface="Wingdings"/>
                <a:ea typeface="Wingdings"/>
                <a:hlinkClick r:id="rId3" action="ppaction://hlinksldjump"/>
              </a:rPr>
              <a:t>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7f7f7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Позитивная реакция </a:t>
            </a:r>
            <a:r>
              <a:rPr b="0" lang="ru-RU" sz="3600" spc="-1" strike="noStrike" u="sng">
                <a:solidFill>
                  <a:srgbClr val="ff3300"/>
                </a:solidFill>
                <a:uFillTx/>
                <a:latin typeface="Wingdings"/>
                <a:ea typeface="Wingdings"/>
                <a:hlinkClick r:id="rId4" action="ppaction://hlinksldjump"/>
              </a:rPr>
              <a:t>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D:\MyDoc\Бочарова\1.2 Фотоальбом\Мои рисунки\оформление презентаций\Заставки от Севрюковой\88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642960" y="571680"/>
            <a:ext cx="777240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Негативная реакция: </a:t>
            </a:r>
            <a:br>
              <a:rPr sz="5400"/>
            </a:b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«Вот ты и попался!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56760" y="2928600"/>
            <a:ext cx="83264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Акцентирование вним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на неправильных поступках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4">
            <a:hlinkClick r:id="rId2" action="ppaction://hlinksldjump"/>
          </p:cNvPr>
          <p:cNvSpPr/>
          <p:nvPr/>
        </p:nvSpPr>
        <p:spPr>
          <a:xfrm rot="20553000">
            <a:off x="8101080" y="6165360"/>
            <a:ext cx="504720" cy="471600"/>
          </a:xfrm>
          <a:custGeom>
            <a:avLst/>
            <a:gdLst>
              <a:gd name="textAreaLeft" fmla="*/ 73800 w 504720"/>
              <a:gd name="textAreaRight" fmla="*/ 430920 w 504720"/>
              <a:gd name="textAreaTop" fmla="*/ 68760 h 471600"/>
              <a:gd name="textAreaBottom" fmla="*/ 402840 h 4716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D:\MyDoc\Бочарова\1.2 Фотоальбом\Мои рисунки\оформление презентаций\Заставки от Севрюковой\88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539640" y="425520"/>
            <a:ext cx="7772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Реакция перенаправлен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57120" y="1483920"/>
            <a:ext cx="84297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700"/>
              </a:spcBef>
              <a:buClr>
                <a:srgbClr val="7f7f7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Быстрее определить ошибку или проблему – ясно и без упре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7f7f7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Показать негативное воздействие               этой ошиб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7f7f7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Взять на себя ответственность за недостаточно ясную постановку зада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7f7f7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Подробно обсудить задачу и убедиться,       что она правильно поня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7f7f7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Выразить свое нерушимое доверие                  к исполнителю и веру в его си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4">
            <a:hlinkClick r:id="rId2" action="ppaction://hlinksldjump"/>
          </p:cNvPr>
          <p:cNvSpPr/>
          <p:nvPr/>
        </p:nvSpPr>
        <p:spPr>
          <a:xfrm rot="20553000">
            <a:off x="8101080" y="6165360"/>
            <a:ext cx="504720" cy="471600"/>
          </a:xfrm>
          <a:custGeom>
            <a:avLst/>
            <a:gdLst>
              <a:gd name="textAreaLeft" fmla="*/ 73800 w 504720"/>
              <a:gd name="textAreaRight" fmla="*/ 430920 w 504720"/>
              <a:gd name="textAreaTop" fmla="*/ 68760 h 471600"/>
              <a:gd name="textAreaBottom" fmla="*/ 402840 h 4716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D:\MyDoc\Бочарова\1.2 Фотоальбом\Мои рисунки\оформление презентаций\Заставки от Севрюковой\88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539640" y="189000"/>
            <a:ext cx="77724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Позитивная реакци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0920" y="2637000"/>
            <a:ext cx="8326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Акцентирование вним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на правильных поступках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D:\MyDoc\Бочарова\1.2 Фотоальбом\Мои рисунки\оформление презентаций\Заставки от Севрюковой\88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539640" y="189000"/>
            <a:ext cx="77724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Хвалите людей</a:t>
            </a:r>
            <a:br>
              <a:rPr sz="5400"/>
            </a:b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 за прогресс, </a:t>
            </a:r>
            <a:br>
              <a:rPr sz="5400"/>
            </a:b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который они делают.</a:t>
            </a:r>
            <a:br>
              <a:rPr sz="5400"/>
            </a:b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Развитие – </a:t>
            </a:r>
            <a:br>
              <a:rPr sz="5400"/>
            </a:b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всегда прогресс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D:\MyDoc\Бочарова\1.2 Фотоальбом\Мои рисунки\оформление презентаций\Заставки от Севрюковой\88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539640" y="189000"/>
            <a:ext cx="777240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Позитивная реакц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28400" y="1642680"/>
            <a:ext cx="8326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Хвалите людей незамедлительно –      по факту их успех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Указывайте конкретно,                          с чем они справились правильно или почти правиль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Делитесь с людьми своими позитивными чувствами относительно их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Поощряйте их совершать правильные поступ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01:13:33Z</dcterms:created>
  <dc:creator>ЛЮДА</dc:creator>
  <dc:description/>
  <dc:language>en-US</dc:language>
  <cp:lastModifiedBy>RTF</cp:lastModifiedBy>
  <dcterms:modified xsi:type="dcterms:W3CDTF">2017-03-02T07:26:47Z</dcterms:modified>
  <cp:revision>35</cp:revision>
  <dc:subject/>
  <dc:title>Киты:  выше и лучше.</dc:title>
</cp:coreProperties>
</file>